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6.png" ContentType="image/png"/>
  <Override PartName="/ppt/media/image25.jpeg" ContentType="image/jpeg"/>
  <Override PartName="/ppt/media/image22.png" ContentType="image/png"/>
  <Override PartName="/ppt/media/image2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10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34.png" ContentType="image/png"/>
  <Override PartName="/ppt/media/image4.png" ContentType="image/png"/>
  <Override PartName="/ppt/media/image12.png" ContentType="image/png"/>
  <Override PartName="/ppt/media/image23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wmf" ContentType="image/x-wmf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247D-F5B1-4BAB-886F-30477BFA4FB9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CD03-BD1F-4E7E-B1E1-D5FCB42411E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A926-34A2-4ECD-8EA8-B2947D8FDE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8B9C-C6FA-4B18-844C-4B6F706AC33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654-89AE-44EC-9EA3-A4307DFA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4F8-B5C5-4C51-9150-9516F098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0F4-DC81-4BD5-BE20-CA850201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6DF-3F0E-434E-A212-7E3D9B68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04E8-4F74-4559-8D6F-DEA151DA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7F37-1A6A-4131-8A2C-2C43E829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2589-0C39-40C8-8834-764CD9F1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C3B8-8CED-415F-8A77-8857DA1D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52EB-56B2-444E-A450-E0A72710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396D-4973-48CC-94DB-D6EEA748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32FF-E7DC-48B4-88B9-D94C173E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B3F-F7C6-4F7D-B7BE-FA6E5624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9177-2F0B-428D-B7D9-BCBEE06F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367F-3059-428C-8D08-3113CF3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C8F0-3DBF-42EA-96EA-88F3B6FE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467E-DCEF-41E0-8A1A-63DEBBB0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75B8-7B7E-4CBA-829A-8849E98C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155-3569-46DD-A1D9-701D9F54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FC0-C0BF-4FA8-B927-DFB493DA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0E2-8C04-4208-88BF-AA8D0B1E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960-02EE-4C00-827A-A1E5992D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5E5-809B-440D-8A06-5C6260C4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796-9404-47A4-8413-05D2FA00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9A0-9214-4CD4-817B-9096C098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2FC1-9B54-404A-B3C1-097D43A13A6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3A7A-9BB3-4053-83D8-01DB67DFC19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4 Rectángulo"/>
          <p:cNvSpPr/>
          <p:nvPr/>
        </p:nvSpPr>
        <p:spPr>
          <a:xfrm>
            <a:off x="0" y="17859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428760"/>
            <a:ext cx="8820000" cy="54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104bc"/>
                </a:solidFill>
                <a:latin typeface="Comic Sans MS"/>
              </a:rPr>
              <a:t>PARA COMPLETAR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104bc"/>
                </a:solidFill>
                <a:latin typeface="Comic Sans MS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Bolilla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c00000"/>
                </a:solidFill>
                <a:uFillTx/>
                <a:latin typeface="Arial"/>
              </a:rPr>
              <a:t>Metabolismo del Glucógeno</a:t>
            </a: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Glucogenolisis y 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Biosíntesis de Glucos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uconeogénesis, reacciones, costo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214280" y="4429080"/>
            <a:ext cx="6705720" cy="13816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214280" y="1500120"/>
            <a:ext cx="6913800" cy="268452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incipalmente en las células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IOSÍNTESIS DEL GLUCOGENO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8501040" cy="357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é requi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atro Enzi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TP como nucleótido activador 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olécula de Glucógeno preexistente 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 “cebador” (proteína) para iniciar la síntesis si no hay una molécula  de Glucógeno preexi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TP como dador de ener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biosíntesi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de glucógeno está coordinada recíprocamente con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degra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905040"/>
            <a:ext cx="89265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nzimas intervie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28800" y="1582560"/>
            <a:ext cx="7162560" cy="354204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(glucosa-1-P uridil transfer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o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es-AR" sz="28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Rectángulo"/>
          <p:cNvSpPr/>
          <p:nvPr/>
        </p:nvSpPr>
        <p:spPr>
          <a:xfrm>
            <a:off x="1214280" y="5270400"/>
            <a:ext cx="45720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UDP-glucosa es el sustrato de la enzim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u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CuadroTexto"/>
          <p:cNvSpPr/>
          <p:nvPr/>
        </p:nvSpPr>
        <p:spPr>
          <a:xfrm>
            <a:off x="2296080" y="71424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3 CuadroTexto"/>
          <p:cNvSpPr/>
          <p:nvPr/>
        </p:nvSpPr>
        <p:spPr>
          <a:xfrm>
            <a:off x="0" y="1285920"/>
            <a:ext cx="89298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) Fosforilación de Glucosa en el C-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) Formación de Glucosa-1P, a partir de Glucosa-6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) “Activación” de Glucosa-1P,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) Elongación de la cadena de Glucógen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ición de Glucosa en una molécula de Glucógeno preexistente o a la proteína Glucogen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) Formación de ram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85840" y="2428920"/>
            <a:ext cx="845820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2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Glucosa-1P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 </a:t>
            </a:r>
            <a:r>
              <a:rPr b="1" i="1" lang="es-AR" sz="2000" spc="-1" strike="noStrike">
                <a:solidFill>
                  <a:srgbClr val="1104bc"/>
                </a:solidFill>
                <a:latin typeface="Arial"/>
              </a:rPr>
              <a:t>(Mg2+, Glu 1,6 bi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6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928960" y="385776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5840" y="4286160"/>
            <a:ext cx="8529480" cy="22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3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“Activación” de Glucosa-1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T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-Glucosa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Pi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953735"/>
                </a:solidFill>
                <a:latin typeface="Arial"/>
              </a:rPr>
              <a:t>piro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3786120" y="5286240"/>
            <a:ext cx="1643040" cy="228600"/>
          </a:xfrm>
          <a:prstGeom prst="leftRightArrow">
            <a:avLst>
              <a:gd name="adj1" fmla="val 50000"/>
              <a:gd name="adj2" fmla="val 17332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214200" y="857160"/>
            <a:ext cx="8429760" cy="137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) Fosforilación de Glucosa en el C-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Repasar Vía Glicolítica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0 Flecha derecha"/>
          <p:cNvSpPr/>
          <p:nvPr/>
        </p:nvSpPr>
        <p:spPr>
          <a:xfrm>
            <a:off x="2428920" y="5786280"/>
            <a:ext cx="97776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Calibri"/>
              </a:rPr>
              <a:t>Etapa 3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33520" y="1447920"/>
            <a:ext cx="4114800" cy="1008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IS LELOIR (1906-1988), 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714920" y="150012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ó el papel de la UDP.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193" name="Picture 6" descr="udpglu"/>
            <p:cNvPicPr/>
            <p:nvPr/>
          </p:nvPicPr>
          <p:blipFill>
            <a:blip r:embed="rId1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2590920" y="373536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200" name="Picture 13" descr="udpglu"/>
            <p:cNvPicPr/>
            <p:nvPr/>
          </p:nvPicPr>
          <p:blipFill>
            <a:blip r:embed="rId2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202" name="Picture 15" descr="udpglu"/>
              <p:cNvPicPr/>
              <p:nvPr/>
            </p:nvPicPr>
            <p:blipFill>
              <a:blip r:embed="rId3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UDP-Glu fosforil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8" name="Picture 2" descr=""/>
          <p:cNvPicPr/>
          <p:nvPr/>
        </p:nvPicPr>
        <p:blipFill>
          <a:blip r:embed="rId4"/>
          <a:stretch/>
        </p:blipFill>
        <p:spPr>
          <a:xfrm>
            <a:off x="7412040" y="1500120"/>
            <a:ext cx="1731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47680" y="190440"/>
            <a:ext cx="6681600" cy="6667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57400" y="4643280"/>
            <a:ext cx="5019480" cy="704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53735"/>
                </a:solidFill>
                <a:latin typeface="Arial"/>
                <a:ea typeface="Arial"/>
              </a:rPr>
              <a:t>Etapa 3)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RMACION DE UDP-Gluc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6"/>
          <p:cNvSpPr/>
          <p:nvPr/>
        </p:nvSpPr>
        <p:spPr>
          <a:xfrm>
            <a:off x="357120" y="1643040"/>
            <a:ext cx="8458200" cy="456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4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ongación de la caden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-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Glucosa + Glucógeno (n) 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(pre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ó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“Glucogenina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+ 1)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2214720" y="4071960"/>
            <a:ext cx="914400" cy="8380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 rot="20625000">
            <a:off x="3734280" y="414288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1509840" y="3500280"/>
            <a:ext cx="1752480" cy="825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71800" y="3514680"/>
            <a:ext cx="487692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5853240" y="4110120"/>
            <a:ext cx="15984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Arial"/>
                <a:ea typeface="Arial"/>
              </a:rPr>
              <a:t>Etapa 4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 DE LA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4 CuadroTexto"/>
          <p:cNvSpPr/>
          <p:nvPr/>
        </p:nvSpPr>
        <p:spPr>
          <a:xfrm>
            <a:off x="3297600" y="63579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Glucógeno (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85840" y="1857240"/>
            <a:ext cx="8458200" cy="23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e46c0a"/>
                </a:solidFill>
                <a:latin typeface="Arial"/>
              </a:rPr>
              <a:t>Enzima ramificante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Amilo a(1,4       1,6) glucos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85840" y="4429080"/>
            <a:ext cx="8534160" cy="947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Forma enlaces glicosídico a(1,6) para las ramificaciones de la molécul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2286000" y="30002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4 CuadroTexto"/>
          <p:cNvSpPr/>
          <p:nvPr/>
        </p:nvSpPr>
        <p:spPr>
          <a:xfrm>
            <a:off x="966240" y="857160"/>
            <a:ext cx="6582960" cy="947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504d"/>
                </a:solidFill>
                <a:latin typeface="Arial"/>
              </a:rPr>
              <a:t>Etapa 5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ramif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3"/>
          <p:cNvGrpSpPr/>
          <p:nvPr/>
        </p:nvGrpSpPr>
        <p:grpSpPr>
          <a:xfrm>
            <a:off x="227160" y="2260440"/>
            <a:ext cx="8665920" cy="3168720"/>
            <a:chOff x="227160" y="2260440"/>
            <a:chExt cx="8665920" cy="3168720"/>
          </a:xfrm>
        </p:grpSpPr>
        <p:grpSp>
          <p:nvGrpSpPr>
            <p:cNvPr id="235" name="Group 2"/>
            <p:cNvGrpSpPr/>
            <p:nvPr/>
          </p:nvGrpSpPr>
          <p:grpSpPr>
            <a:xfrm>
              <a:off x="227160" y="2260440"/>
              <a:ext cx="8665920" cy="3168720"/>
              <a:chOff x="227160" y="2260440"/>
              <a:chExt cx="8665920" cy="3168720"/>
            </a:xfrm>
          </p:grpSpPr>
          <p:grpSp>
            <p:nvGrpSpPr>
              <p:cNvPr id="236" name="Group 3"/>
              <p:cNvGrpSpPr/>
              <p:nvPr/>
            </p:nvGrpSpPr>
            <p:grpSpPr>
              <a:xfrm>
                <a:off x="227160" y="2260440"/>
                <a:ext cx="8665920" cy="3168720"/>
                <a:chOff x="227160" y="2260440"/>
                <a:chExt cx="8665920" cy="3168720"/>
              </a:xfrm>
            </p:grpSpPr>
            <p:pic>
              <p:nvPicPr>
                <p:cNvPr id="237" name="Picture 4" descr="fi16p10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7160" y="2336760"/>
                  <a:ext cx="8665920" cy="30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Rectangle 5"/>
                <p:cNvSpPr/>
                <p:nvPr/>
              </p:nvSpPr>
              <p:spPr>
                <a:xfrm>
                  <a:off x="4788000" y="2260440"/>
                  <a:ext cx="3097080" cy="57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Text Box 6"/>
              <p:cNvSpPr/>
              <p:nvPr/>
            </p:nvSpPr>
            <p:spPr>
              <a:xfrm>
                <a:off x="6257520" y="3448080"/>
                <a:ext cx="226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Enzima ramifica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7"/>
              <p:cNvSpPr/>
              <p:nvPr/>
            </p:nvSpPr>
            <p:spPr>
              <a:xfrm>
                <a:off x="3410280" y="4924440"/>
                <a:ext cx="101880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Extremo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no reduc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8"/>
              <p:cNvSpPr/>
              <p:nvPr/>
            </p:nvSpPr>
            <p:spPr>
              <a:xfrm>
                <a:off x="7882920" y="4060800"/>
                <a:ext cx="9014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Punto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ram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lang="el-GR" sz="1200" spc="-1" strike="noStrike">
                    <a:solidFill>
                      <a:srgbClr val="ff0000"/>
                    </a:solidFill>
                    <a:latin typeface="Arial"/>
                  </a:rPr>
                  <a:t>α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-1,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Line 12"/>
            <p:cNvSpPr/>
            <p:nvPr/>
          </p:nvSpPr>
          <p:spPr>
            <a:xfrm flipH="1" flipV="1">
              <a:off x="539280" y="3484080"/>
              <a:ext cx="2808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3"/>
          <p:cNvSpPr/>
          <p:nvPr/>
        </p:nvSpPr>
        <p:spPr>
          <a:xfrm>
            <a:off x="214200" y="0"/>
            <a:ext cx="8572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Etapa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</a:t>
            </a: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enzima ramificante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 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e46c0a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seis o siete residuos de glucosa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, a un grupo hidroxilo situado en la posición 6 de un residuo de glucosa en el interior del polímero formándose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nlaces (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10"/>
          <p:cNvSpPr/>
          <p:nvPr/>
        </p:nvSpPr>
        <p:spPr>
          <a:xfrm flipV="1" rot="10800000">
            <a:off x="4857480" y="2174760"/>
            <a:ext cx="2809800" cy="533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6227640" y="335772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3 Rectángulo"/>
          <p:cNvSpPr/>
          <p:nvPr/>
        </p:nvSpPr>
        <p:spPr>
          <a:xfrm>
            <a:off x="6286680" y="3286080"/>
            <a:ext cx="2857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4 Rectángulo"/>
          <p:cNvSpPr/>
          <p:nvPr/>
        </p:nvSpPr>
        <p:spPr>
          <a:xfrm>
            <a:off x="7643880" y="4000680"/>
            <a:ext cx="150012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LUCOGENO</a:t>
            </a:r>
            <a:r>
              <a:rPr b="1" lang="es-ES" sz="2900" spc="-1" strike="noStrike">
                <a:solidFill>
                  <a:srgbClr val="1104bc"/>
                </a:solidFill>
                <a:latin typeface="Calibri"/>
              </a:rPr>
              <a:t>GENESIS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asto Energético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08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UT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DP  +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TP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  UTP  +  A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Hidrólisis PP  a  2 Pi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se rompe una unión de alta energ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41964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4071960" y="292896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57120" y="1571760"/>
            <a:ext cx="83520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sobre </a:t>
            </a:r>
            <a:r>
              <a:rPr b="1" i="1" lang="es-ES" sz="22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cogeno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36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ógen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0504d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0504d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58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c0504d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c0504d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c0504d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63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12"/>
            <p:cNvSpPr/>
            <p:nvPr/>
          </p:nvSpPr>
          <p:spPr>
            <a:xfrm flipV="1">
              <a:off x="5724360" y="2492280"/>
              <a:ext cx="863640" cy="432000"/>
            </a:xfrm>
            <a:prstGeom prst="pie">
              <a:avLst/>
            </a:pr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268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274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277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295280" y="3581280"/>
            <a:ext cx="2016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3657600" y="2852640"/>
            <a:ext cx="4946760" cy="1711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(-) </a:t>
            </a: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Adrenalina ó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3200" y="274320"/>
            <a:ext cx="86868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gulación Hormonal de la     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GLUCÓGENO-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19320" y="5410080"/>
            <a:ext cx="20160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038480" y="468144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Calibri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(-)Ca</a:t>
            </a:r>
            <a:r>
              <a:rPr b="1" lang="es-MX" sz="2400" spc="-1" strike="noStrike" baseline="30000">
                <a:solidFill>
                  <a:srgbClr val="c0504d"/>
                </a:solidFill>
                <a:latin typeface="Calibri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286000" y="213372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Calibri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GRADACION DEL GLUCOGENO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539640" y="1628640"/>
            <a:ext cx="8280360" cy="494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se ac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SE ACTIVA CUANDO LA CE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NECESITA ENERGIA Y NO DISPONE DE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Calibri"/>
              </a:rPr>
              <a:t>(entre comidas, actividad muscular inten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TIENE LUGAR EN EL CITOPLASMA DE LAS CE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ES UN PROCESO MUY ACTIVO EN HIGA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3 CuadroTexto"/>
          <p:cNvSpPr/>
          <p:nvPr/>
        </p:nvSpPr>
        <p:spPr>
          <a:xfrm>
            <a:off x="251280" y="1380960"/>
            <a:ext cx="797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de unidades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1-fosfat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ógeno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nsferencia de unidades del trisacárido ter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 extremo de la rama vecina: acción de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Hidrólisis de las uniones a 1,6 glicosíd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alfa- 1,6 glicos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Formación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partir de l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glucosa-1-fosfato :por 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glucosa a partir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hígado por acción d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osa-6-fosfatasa</a:t>
            </a: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7572240" cy="857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5 CuadroTexto"/>
          <p:cNvSpPr/>
          <p:nvPr/>
        </p:nvSpPr>
        <p:spPr>
          <a:xfrm>
            <a:off x="2296080" y="89532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iminación de GLUCOSA del extremo no reductor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Hidrólisis de los enlaces glucosídicos en los puntos de ramificación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nzimas que intervienen en el proceso de degradación del GLUCO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6920" y="1989000"/>
            <a:ext cx="532944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55640" y="3357720"/>
            <a:ext cx="532908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AMILO-</a:t>
            </a:r>
            <a:r>
              <a:rPr b="1" i="1" lang="es-ES_tradnl" sz="2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 (1,6) GLUCOSID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684360" y="5013360"/>
            <a:ext cx="431928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50920" y="4797360"/>
            <a:ext cx="8605800" cy="158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 n-1  +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MILO- </a:t>
            </a:r>
            <a:r>
              <a:rPr b="1" lang="es-E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(1,6)-GLUCOSID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24000" y="1700280"/>
            <a:ext cx="8748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              GLUCOGENOn-1  +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2786040" y="25002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 rot="954600">
            <a:off x="3420360" y="2852640"/>
            <a:ext cx="2207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2714760" y="55720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 rot="954600">
            <a:off x="3162960" y="6076800"/>
            <a:ext cx="235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468360" y="3573360"/>
            <a:ext cx="770400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Calibri"/>
              </a:rPr>
              <a:t>SE ELIMINA UN PUNTO DE RAM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8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756160" y="228600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71124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01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984807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984807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41440" y="2852640"/>
            <a:ext cx="3097440" cy="873360"/>
            <a:chOff x="541440" y="2852640"/>
            <a:chExt cx="3097440" cy="873360"/>
          </a:xfrm>
        </p:grpSpPr>
        <p:sp>
          <p:nvSpPr>
            <p:cNvPr id="108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9"/>
            <p:cNvSpPr/>
            <p:nvPr/>
          </p:nvSpPr>
          <p:spPr>
            <a:xfrm>
              <a:off x="127584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84807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84807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897280" y="40654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984807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984807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13400" y="228600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3333ff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3333ff"/>
                </a:solidFill>
                <a:latin typeface="Arial"/>
              </a:rPr>
              <a:t>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http://www.oocities.org/pelabzen/fosforglucog.gif"/>
          <p:cNvPicPr/>
          <p:nvPr/>
        </p:nvPicPr>
        <p:blipFill>
          <a:blip r:embed="rId1"/>
          <a:stretch/>
        </p:blipFill>
        <p:spPr>
          <a:xfrm>
            <a:off x="571680" y="857160"/>
            <a:ext cx="8429400" cy="5214960"/>
          </a:xfrm>
          <a:prstGeom prst="rect">
            <a:avLst/>
          </a:prstGeom>
          <a:ln w="0">
            <a:noFill/>
          </a:ln>
        </p:spPr>
      </p:pic>
      <p:sp>
        <p:nvSpPr>
          <p:cNvPr id="307" name="Oval 9"/>
          <p:cNvSpPr/>
          <p:nvPr/>
        </p:nvSpPr>
        <p:spPr>
          <a:xfrm>
            <a:off x="2786040" y="2714760"/>
            <a:ext cx="1076400" cy="8571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1714680" y="4857840"/>
            <a:ext cx="857160" cy="7142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4 CuadroTexto"/>
          <p:cNvSpPr/>
          <p:nvPr/>
        </p:nvSpPr>
        <p:spPr>
          <a:xfrm>
            <a:off x="4109760" y="2928960"/>
            <a:ext cx="1305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Glucó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fosfor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luc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ó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Calibri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Calibri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500720" y="3429000"/>
            <a:ext cx="228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) glucanotransf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608360" y="4857840"/>
            <a:ext cx="16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6) glucos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929200" y="5715000"/>
            <a:ext cx="17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805440" y="5445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 rot="18675000">
            <a:off x="128880" y="315936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12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Text Box 7"/>
          <p:cNvSpPr/>
          <p:nvPr/>
        </p:nvSpPr>
        <p:spPr>
          <a:xfrm>
            <a:off x="376200" y="421488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LUCOGENO FOSFORIL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una enzima que se regula covalente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activa cuando está fosforil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inactiva cuando está desfosforil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ON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GULACION ALOSTERICA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: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AMP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/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b)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GULACION HORMONAL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: Intervienen 3 hormo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)INSU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GLUCAGO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Hepatoci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ADRENALI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Células muscula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Regulación covalente de la </a:t>
            </a:r>
            <a:br>
              <a:rPr sz="3600"/>
            </a:br>
            <a:r>
              <a:rPr b="1" i="1" lang="es-ES" sz="3600" spc="-1" strike="noStrike">
                <a:solidFill>
                  <a:srgbClr val="c00000"/>
                </a:solidFill>
                <a:latin typeface="Calibri"/>
              </a:rPr>
              <a:t>glucógeno fosforil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ORILASA (b)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ORILASA 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(inactiva)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 (acti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395280" y="270828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1619280" y="270828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1619280" y="4005360"/>
            <a:ext cx="122400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395280" y="4005360"/>
            <a:ext cx="122400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5508720" y="299556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661080" y="299556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5653080" y="364320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6805440" y="364320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5726160" y="2708280"/>
            <a:ext cx="43164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7742160" y="285264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5510160" y="414972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5"/>
          <p:cNvSpPr/>
          <p:nvPr/>
        </p:nvSpPr>
        <p:spPr>
          <a:xfrm>
            <a:off x="7885080" y="407664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6"/>
          <p:cNvSpPr/>
          <p:nvPr/>
        </p:nvSpPr>
        <p:spPr>
          <a:xfrm>
            <a:off x="320364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7"/>
          <p:cNvSpPr/>
          <p:nvPr/>
        </p:nvSpPr>
        <p:spPr>
          <a:xfrm>
            <a:off x="3492360" y="3716280"/>
            <a:ext cx="503280" cy="289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8"/>
          <p:cNvSpPr/>
          <p:nvPr/>
        </p:nvSpPr>
        <p:spPr>
          <a:xfrm>
            <a:off x="3995640" y="3933720"/>
            <a:ext cx="1008000" cy="57492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9"/>
          <p:cNvSpPr/>
          <p:nvPr/>
        </p:nvSpPr>
        <p:spPr>
          <a:xfrm>
            <a:off x="2987640" y="3933720"/>
            <a:ext cx="1008000" cy="57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0"/>
          <p:cNvSpPr/>
          <p:nvPr/>
        </p:nvSpPr>
        <p:spPr>
          <a:xfrm rot="20377200">
            <a:off x="3594240" y="3206520"/>
            <a:ext cx="288720" cy="503280"/>
          </a:xfrm>
          <a:prstGeom prst="upArrow">
            <a:avLst>
              <a:gd name="adj1" fmla="val 50000"/>
              <a:gd name="adj2" fmla="val 43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3492360" y="2637000"/>
            <a:ext cx="93528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4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95200" y="18900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REGULACION POR MODIFICACIO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dificación de la actividad d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diante fosforilación: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B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poco activa) no está fosforilada, mientras que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muy activa) se encuentra FOSFORILADA. Esta regulación está sometida a control hormonal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943920" y="2276640"/>
            <a:ext cx="6004440" cy="4173480"/>
            <a:chOff x="943920" y="2276640"/>
            <a:chExt cx="6004440" cy="4173480"/>
          </a:xfrm>
        </p:grpSpPr>
        <p:grpSp>
          <p:nvGrpSpPr>
            <p:cNvPr id="348" name="Group 4"/>
            <p:cNvGrpSpPr/>
            <p:nvPr/>
          </p:nvGrpSpPr>
          <p:grpSpPr>
            <a:xfrm>
              <a:off x="2571480" y="2276640"/>
              <a:ext cx="4376880" cy="4173480"/>
              <a:chOff x="2571480" y="2276640"/>
              <a:chExt cx="4376880" cy="4173480"/>
            </a:xfrm>
          </p:grpSpPr>
          <p:pic>
            <p:nvPicPr>
              <p:cNvPr id="349" name="Picture 5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6640"/>
                <a:ext cx="3678120" cy="41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Text Box 6"/>
              <p:cNvSpPr/>
              <p:nvPr/>
            </p:nvSpPr>
            <p:spPr>
              <a:xfrm>
                <a:off x="2571480" y="4002120"/>
                <a:ext cx="84816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"/>
              <p:cNvSpPr/>
              <p:nvPr/>
            </p:nvSpPr>
            <p:spPr>
              <a:xfrm>
                <a:off x="4932360" y="422100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5415120" y="3670200"/>
                <a:ext cx="60228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Calibri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5406840" y="4505400"/>
                <a:ext cx="7016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Calibri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Calibri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0"/>
            <p:cNvGrpSpPr/>
            <p:nvPr/>
          </p:nvGrpSpPr>
          <p:grpSpPr>
            <a:xfrm>
              <a:off x="943920" y="3952800"/>
              <a:ext cx="1530000" cy="483120"/>
              <a:chOff x="943920" y="3952800"/>
              <a:chExt cx="1530000" cy="483120"/>
            </a:xfrm>
          </p:grpSpPr>
          <p:sp>
            <p:nvSpPr>
              <p:cNvPr id="355" name="Text Box 11"/>
              <p:cNvSpPr/>
              <p:nvPr/>
            </p:nvSpPr>
            <p:spPr>
              <a:xfrm>
                <a:off x="943920" y="412884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2"/>
              <p:cNvSpPr/>
              <p:nvPr/>
            </p:nvSpPr>
            <p:spPr>
              <a:xfrm>
                <a:off x="1835280" y="42890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13"/>
              <p:cNvSpPr/>
              <p:nvPr/>
            </p:nvSpPr>
            <p:spPr>
              <a:xfrm>
                <a:off x="2067480" y="39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Calibri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Rectangle 14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17"/>
          <p:cNvSpPr/>
          <p:nvPr/>
        </p:nvSpPr>
        <p:spPr>
          <a:xfrm>
            <a:off x="4788000" y="3716280"/>
            <a:ext cx="144360" cy="1366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18"/>
          <p:cNvSpPr/>
          <p:nvPr/>
        </p:nvSpPr>
        <p:spPr>
          <a:xfrm flipH="1">
            <a:off x="3564000" y="3646440"/>
            <a:ext cx="109440" cy="129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GLUCOG-regul-horm"/>
          <p:cNvPicPr/>
          <p:nvPr/>
        </p:nvPicPr>
        <p:blipFill>
          <a:blip r:embed="rId1"/>
          <a:stretch/>
        </p:blipFill>
        <p:spPr>
          <a:xfrm>
            <a:off x="1800360" y="73080"/>
            <a:ext cx="5724360" cy="6669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4829760" y="115920"/>
            <a:ext cx="1768680" cy="520200"/>
          </a:xfrm>
          <a:prstGeom prst="rect">
            <a:avLst/>
          </a:prstGeom>
          <a:solidFill>
            <a:srgbClr val="f2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drenalina (múscu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Glucag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n (híg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140800" y="15048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Célula hepá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o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LISI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COMO SE REGULA EN MUSCUL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ando el músculo necesita una rápida provisión de energí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carrera, estados estrés emocional, agresión fís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Aumentan los niveles de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libera ADRENA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e activa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Glucógeno fosforilasa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y se libera glucosa-1-fosf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8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207640" cy="489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Calibri"/>
              </a:rPr>
              <a:t>Cuando BAJAN los niveles 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Calibri"/>
              </a:rPr>
              <a:t>glucosa sanguín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libera glucagón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 del pá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activa l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denilato ciclas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en consecuencia la glucógenoli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obre   glucosa 1-fosfato actúa un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atas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y  se libera glucosa libre en sang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LISIS </a:t>
            </a:r>
            <a:br>
              <a:rPr sz="28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¿Cuándo y cómo se regula en HIG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8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3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468360" y="765000"/>
            <a:ext cx="7559640" cy="49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¿Qué sucede cuando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AUMENTA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los niveles de glucosa sanguíne</a:t>
            </a:r>
            <a:r>
              <a:rPr b="0" lang="es-MX" sz="2800" spc="-1" strike="noStrike" u="sng">
                <a:solidFill>
                  <a:srgbClr val="ff0000"/>
                </a:solidFill>
                <a:uFillTx/>
                <a:latin typeface="Comic Sans MS"/>
              </a:rPr>
              <a:t>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1981080"/>
            <a:ext cx="70866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suli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l pá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estimula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actividad fosfa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hibe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4000680"/>
            <a:ext cx="273528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89000" y="2328840"/>
            <a:ext cx="316872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043600" y="2257560"/>
            <a:ext cx="360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5640" y="3929040"/>
            <a:ext cx="4608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490920" y="2349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3214800" y="4005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La síntesis y degradación de glucógeno está cuidadosamente regulada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12"/>
          <p:cNvSpPr/>
          <p:nvPr/>
        </p:nvSpPr>
        <p:spPr>
          <a:xfrm>
            <a:off x="3419640" y="3213000"/>
            <a:ext cx="366480" cy="397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13"/>
          <p:cNvSpPr/>
          <p:nvPr/>
        </p:nvSpPr>
        <p:spPr>
          <a:xfrm>
            <a:off x="2489040" y="4272120"/>
            <a:ext cx="454320" cy="626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14"/>
          <p:cNvSpPr/>
          <p:nvPr/>
        </p:nvSpPr>
        <p:spPr>
          <a:xfrm flipV="1" rot="19738800">
            <a:off x="6548040" y="5227560"/>
            <a:ext cx="92160" cy="274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Glucógeno sintetasa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5"/>
          <p:cNvSpPr/>
          <p:nvPr/>
        </p:nvSpPr>
        <p:spPr>
          <a:xfrm>
            <a:off x="6227640" y="3068640"/>
            <a:ext cx="444600" cy="533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biosíntesis y degradación están coordinadamente regu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500"/>
                            </p:stCondLst>
                            <p:childTnLst>
                              <p:par>
                                <p:cTn id="9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000"/>
                            </p:stCondLst>
                            <p:childTnLst>
                              <p:par>
                                <p:cTn id="9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500"/>
                            </p:stCondLst>
                            <p:childTnLst>
                              <p:par>
                                <p:cTn id="9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00"/>
                            </p:stCondLst>
                            <p:childTnLst>
                              <p:par>
                                <p:cTn id="9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6"/>
          <p:cNvSpPr/>
          <p:nvPr/>
        </p:nvSpPr>
        <p:spPr>
          <a:xfrm>
            <a:off x="428760" y="3000240"/>
            <a:ext cx="29923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Calibri"/>
              </a:rPr>
              <a:t>Cuando se ingieren carbohidratos con la dieta y los niveles de glucemia aum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de la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glucógeno fosforilasa-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</a:t>
            </a:r>
            <a:r>
              <a:rPr b="1" lang="es-ES" sz="2400" spc="-1" strike="noStrike">
                <a:solidFill>
                  <a:srgbClr val="1104bc"/>
                </a:solidFill>
                <a:latin typeface="Arial Rounded MT Bold"/>
              </a:rPr>
              <a:t>GLUCOGENO HEPATICO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1 CuadroTexto"/>
          <p:cNvSpPr/>
          <p:nvPr/>
        </p:nvSpPr>
        <p:spPr>
          <a:xfrm>
            <a:off x="642960" y="428760"/>
            <a:ext cx="750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P N° 3 - PROBLEMAS 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0000"/>
                </a:solidFill>
                <a:latin typeface="Arial"/>
              </a:rPr>
              <a:t>Glucogenólisi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: A partir del glucógeno por la acción secuencial de dos enzimas se libera glucosa-1-fosfato y gl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¿En qué situaciones fisiológicas se activa esta ví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-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ediante un esquema realice las reacciones involucradas. Nombre las enz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Una de ellas es un ejemplo importante de regulación por modificación covalen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alice su comportamiento con  un esquema 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1 CuadroTexto"/>
          <p:cNvSpPr/>
          <p:nvPr/>
        </p:nvSpPr>
        <p:spPr>
          <a:xfrm>
            <a:off x="714240" y="487440"/>
            <a:ext cx="7929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Glucogenogénesi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: En animales, el exceso de glucosa disponible de los glúcidos de la dieta se  almacenan en forma glucó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¿En que situaciones fisiológicas se activa esta ví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 Considerando el punto de inicio de la síntesis como glucosa-6-fosfato, esquematice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reacciones involucradas señalando las enzimas que las cataliz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Una de ellas se regula de manera recíproca a la enzima de la glucogenólisis. Analice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u 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1 CuadroTexto"/>
          <p:cNvSpPr/>
          <p:nvPr/>
        </p:nvSpPr>
        <p:spPr>
          <a:xfrm>
            <a:off x="1143000" y="1214280"/>
            <a:ext cx="650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ondiciones de</a:t>
            </a:r>
            <a:r>
              <a:rPr b="0" lang="es-AR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b050"/>
                </a:solidFill>
                <a:latin typeface="Arial"/>
              </a:rPr>
              <a:t>hipoglucemia</a:t>
            </a:r>
            <a:r>
              <a:rPr b="0" lang="es-AR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 libera la hormona glucagón, debido a su acción se incrementan los niveles de AMPc intracel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Fundamente cómo se encontrarán los siguientes procesos en esta condición y sus consecuencias para la glucem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glucogenogénesi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AR" sz="2400" spc="-1" strike="noStrike">
                <a:solidFill>
                  <a:srgbClr val="ff0000"/>
                </a:solidFill>
                <a:latin typeface="Arial"/>
              </a:rPr>
              <a:t> glucogen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2 CuadroTexto"/>
          <p:cNvSpPr/>
          <p:nvPr/>
        </p:nvSpPr>
        <p:spPr>
          <a:xfrm>
            <a:off x="1000080" y="1000080"/>
            <a:ext cx="66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-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ondiciones de 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hiperglucemia,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se libera la hormona insulina. Esta hormona, entre otros efectos, activa enzimas con acción de proteínas 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fosfatasa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rgumente cómo se encontrarán los siguientes procesos en tal condición y señale sus consecuencias para la glucem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glucogenogénesi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b) g</a:t>
            </a:r>
            <a:r>
              <a:rPr b="0" lang="es-AR" sz="2400" spc="-1" strike="noStrike">
                <a:solidFill>
                  <a:srgbClr val="ff0000"/>
                </a:solidFill>
                <a:latin typeface="Arial"/>
              </a:rPr>
              <a:t>lucogenólisi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http://images.slideplayer.es/1/24024/slides/slide_9.jpg"/>
          <p:cNvPicPr/>
          <p:nvPr/>
        </p:nvPicPr>
        <p:blipFill>
          <a:blip r:embed="rId1"/>
          <a:stretch/>
        </p:blipFill>
        <p:spPr>
          <a:xfrm>
            <a:off x="500040" y="214200"/>
            <a:ext cx="84297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http://lamammaenpruebas.esy.es/wp-content/uploads/2014/03/glucogenoestructura.jpg"/>
          <p:cNvPicPr/>
          <p:nvPr/>
        </p:nvPicPr>
        <p:blipFill>
          <a:blip r:embed="rId1"/>
          <a:stretch/>
        </p:blipFill>
        <p:spPr>
          <a:xfrm>
            <a:off x="1357200" y="285840"/>
            <a:ext cx="66628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http://www2.uah.es/tejedor_bio/bioquimica_Farmacia/IMAGENES/GLUCOG-desramifica.gif"/>
          <p:cNvPicPr/>
          <p:nvPr/>
        </p:nvPicPr>
        <p:blipFill>
          <a:blip r:embed="rId1"/>
          <a:stretch/>
        </p:blipFill>
        <p:spPr>
          <a:xfrm>
            <a:off x="928800" y="1000080"/>
            <a:ext cx="64292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s://encrypted-tbn3.gstatic.com/images?q=tbn:ANd9GcTrTz2bIBFXIfTAkwZVnMNIPyjEZHvHERFyJvGq4soQdilEIg2FTA"/>
          <p:cNvPicPr/>
          <p:nvPr/>
        </p:nvPicPr>
        <p:blipFill>
          <a:blip r:embed="rId1"/>
          <a:stretch/>
        </p:blipFill>
        <p:spPr>
          <a:xfrm>
            <a:off x="357120" y="81000"/>
            <a:ext cx="3319560" cy="263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s://encrypted-tbn3.gstatic.com/images?q=tbn:ANd9GcSybDm7V9gslrWY12DO4duE1hJT-9TzKvztyLnHGuBby8gXVgNjkg"/>
          <p:cNvPicPr/>
          <p:nvPr/>
        </p:nvPicPr>
        <p:blipFill>
          <a:blip r:embed="rId2"/>
          <a:stretch/>
        </p:blipFill>
        <p:spPr>
          <a:xfrm>
            <a:off x="571680" y="3071880"/>
            <a:ext cx="2388960" cy="2357280"/>
          </a:xfrm>
          <a:prstGeom prst="rect">
            <a:avLst/>
          </a:prstGeom>
          <a:ln w="0">
            <a:noFill/>
          </a:ln>
        </p:spPr>
      </p:pic>
      <p:sp>
        <p:nvSpPr>
          <p:cNvPr id="126" name="3 Rectángulo"/>
          <p:cNvSpPr/>
          <p:nvPr/>
        </p:nvSpPr>
        <p:spPr>
          <a:xfrm>
            <a:off x="428760" y="5643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mificación de la moléc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Glucógeno: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97520" y="2440080"/>
            <a:ext cx="1726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6 Conector recto de flecha"/>
          <p:cNvCxnSpPr/>
          <p:nvPr/>
        </p:nvCxnSpPr>
        <p:spPr>
          <a:xfrm flipH="1">
            <a:off x="3357000" y="714240"/>
            <a:ext cx="857880" cy="572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9 Conector recto de flecha"/>
          <p:cNvCxnSpPr/>
          <p:nvPr/>
        </p:nvCxnSpPr>
        <p:spPr>
          <a:xfrm flipH="1">
            <a:off x="3142440" y="642960"/>
            <a:ext cx="114372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12 CuadroTexto"/>
          <p:cNvSpPr/>
          <p:nvPr/>
        </p:nvSpPr>
        <p:spPr>
          <a:xfrm>
            <a:off x="4234680" y="568440"/>
            <a:ext cx="25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ánul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cógeno (hepatoci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371840" y="0"/>
            <a:ext cx="3823200" cy="52056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15 Conector recto de flecha"/>
          <p:cNvCxnSpPr/>
          <p:nvPr/>
        </p:nvCxnSpPr>
        <p:spPr>
          <a:xfrm flipH="1" flipV="1">
            <a:off x="2428200" y="1499400"/>
            <a:ext cx="214920" cy="107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18 CuadroTexto"/>
          <p:cNvSpPr/>
          <p:nvPr/>
        </p:nvSpPr>
        <p:spPr>
          <a:xfrm>
            <a:off x="2503800" y="250020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9 CuadroTexto"/>
          <p:cNvSpPr/>
          <p:nvPr/>
        </p:nvSpPr>
        <p:spPr>
          <a:xfrm>
            <a:off x="3857760" y="135720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tá presente en citosol formando gránulos (100-400 A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un polímero de la glucosa de alto peso molecular, soluble en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muy ramificado: cada 8-12 unidades de Glucosa presenta una unión </a:t>
            </a:r>
            <a:r>
              <a:rPr b="1" lang="es-ES_tradnl" sz="1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 1-6 o punto de ram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0 CuadroTexto"/>
          <p:cNvSpPr/>
          <p:nvPr/>
        </p:nvSpPr>
        <p:spPr>
          <a:xfrm>
            <a:off x="5085360" y="378612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¿Es ventajoso tener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structura ramific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1 CuadroTexto"/>
          <p:cNvSpPr/>
          <p:nvPr/>
        </p:nvSpPr>
        <p:spPr>
          <a:xfrm>
            <a:off x="3857760" y="4572000"/>
            <a:ext cx="528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Presenta gran número de glucosa terminales ó extremos (no reduc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Los extremos son de fácil acceso a enzimas de la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Esto posibilita una degradación ráp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omic Sans MS"/>
              </a:rPr>
              <a:t>También aumenta la velocidad de 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oocities.org/pelabzen/fosforglucog.gif"/>
          <p:cNvPicPr/>
          <p:nvPr/>
        </p:nvPicPr>
        <p:blipFill>
          <a:blip r:embed="rId1"/>
          <a:stretch/>
        </p:blipFill>
        <p:spPr>
          <a:xfrm>
            <a:off x="571680" y="857160"/>
            <a:ext cx="85453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http://themedicalbiochemistrypage.org/spanishimages/cori-sp.jpg"/>
          <p:cNvPicPr/>
          <p:nvPr/>
        </p:nvPicPr>
        <p:blipFill>
          <a:blip r:embed="rId1"/>
          <a:stretch/>
        </p:blipFill>
        <p:spPr>
          <a:xfrm>
            <a:off x="0" y="214200"/>
            <a:ext cx="4951440" cy="37054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buenaforma.org/wp-content/uploads/2011/07/glucogeno-muscular.jpg"/>
          <p:cNvPicPr/>
          <p:nvPr/>
        </p:nvPicPr>
        <p:blipFill>
          <a:blip r:embed="rId2"/>
          <a:stretch/>
        </p:blipFill>
        <p:spPr>
          <a:xfrm>
            <a:off x="5111640" y="2714760"/>
            <a:ext cx="38894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http://themedicalbiochemistrypage.org/spanishimages/glycogensynthesis-sp.jpg"/>
          <p:cNvPicPr/>
          <p:nvPr/>
        </p:nvPicPr>
        <p:blipFill>
          <a:blip r:embed="rId1"/>
          <a:stretch/>
        </p:blipFill>
        <p:spPr>
          <a:xfrm>
            <a:off x="2571840" y="714240"/>
            <a:ext cx="285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3.bp.blogspot.com/-hNzJaV3WdnM/UZlRjJ2pnLI/AAAAAAAAAPg/entq4drrXZQ/s1600/000833344.jpg"/>
          <p:cNvPicPr/>
          <p:nvPr/>
        </p:nvPicPr>
        <p:blipFill>
          <a:blip r:embed="rId1"/>
          <a:stretch/>
        </p:blipFill>
        <p:spPr>
          <a:xfrm>
            <a:off x="142920" y="214200"/>
            <a:ext cx="89298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http://2.bp.blogspot.com/-txLgSepAMzs/UvyYs_hgAKI/AAAAAAAAAMk/IW80dK59Qek/s1600/glucogeno+funciones.jpg"/>
          <p:cNvPicPr/>
          <p:nvPr/>
        </p:nvPicPr>
        <p:blipFill>
          <a:blip r:embed="rId1"/>
          <a:stretch/>
        </p:blipFill>
        <p:spPr>
          <a:xfrm>
            <a:off x="500040" y="928800"/>
            <a:ext cx="8547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://html.rincondelvago.com/000252446.jpg"/>
          <p:cNvPicPr/>
          <p:nvPr/>
        </p:nvPicPr>
        <p:blipFill>
          <a:blip r:embed="rId1"/>
          <a:stretch/>
        </p:blipFill>
        <p:spPr>
          <a:xfrm>
            <a:off x="1428840" y="571680"/>
            <a:ext cx="5715000" cy="60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8" descr="fi16p10"/>
          <p:cNvPicPr/>
          <p:nvPr/>
        </p:nvPicPr>
        <p:blipFill>
          <a:blip r:embed="rId2"/>
          <a:stretch/>
        </p:blipFill>
        <p:spPr>
          <a:xfrm>
            <a:off x="0" y="2060640"/>
            <a:ext cx="8790120" cy="275436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9"/>
          <p:cNvSpPr/>
          <p:nvPr/>
        </p:nvSpPr>
        <p:spPr>
          <a:xfrm>
            <a:off x="7543800" y="3508200"/>
            <a:ext cx="152388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nlace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2895480" y="4346640"/>
            <a:ext cx="152424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xtremo no re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172200" y="3051000"/>
            <a:ext cx="19810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ima 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8028000" y="2565360"/>
            <a:ext cx="76212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8077320" y="4346640"/>
            <a:ext cx="7617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141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15 Conector recto de flecha"/>
          <p:cNvCxnSpPr>
            <a:stCxn id="147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0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1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1.bp.blogspot.com/-gl9zFJFHqqU/Uwf3VCJdCaI/AAAAAAAAALI/wNbZ4a3z4n4/s1600/glucogeno.jpg"/>
          <p:cNvPicPr/>
          <p:nvPr/>
        </p:nvPicPr>
        <p:blipFill>
          <a:blip r:embed="rId1"/>
          <a:stretch/>
        </p:blipFill>
        <p:spPr>
          <a:xfrm>
            <a:off x="0" y="635040"/>
            <a:ext cx="9007560" cy="4865760"/>
          </a:xfrm>
          <a:prstGeom prst="rect">
            <a:avLst/>
          </a:prstGeom>
          <a:ln w="0">
            <a:noFill/>
          </a:ln>
        </p:spPr>
      </p:pic>
      <p:sp>
        <p:nvSpPr>
          <p:cNvPr id="153" name="3 CuadroTexto"/>
          <p:cNvSpPr/>
          <p:nvPr/>
        </p:nvSpPr>
        <p:spPr>
          <a:xfrm>
            <a:off x="-66600" y="1143000"/>
            <a:ext cx="12096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Extre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Redu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12 Conector angular"/>
          <p:cNvCxnSpPr/>
          <p:nvPr/>
        </p:nvCxnSpPr>
        <p:spPr>
          <a:xfrm flipH="1" rot="16200000">
            <a:off x="106200" y="2250000"/>
            <a:ext cx="786600" cy="143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5" name="13 Rectángulo redondeado"/>
          <p:cNvSpPr/>
          <p:nvPr/>
        </p:nvSpPr>
        <p:spPr>
          <a:xfrm>
            <a:off x="6143760" y="1214280"/>
            <a:ext cx="178596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 redondeado"/>
          <p:cNvSpPr/>
          <p:nvPr/>
        </p:nvSpPr>
        <p:spPr>
          <a:xfrm>
            <a:off x="6143760" y="2071800"/>
            <a:ext cx="171432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30200" y="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000080" y="214200"/>
          <a:ext cx="7143840" cy="6548400"/>
        </p:xfrm>
        <a:graphic>
          <a:graphicData uri="http://schemas.openxmlformats.org/drawingml/2006/table">
            <a:tbl>
              <a:tblPr/>
              <a:tblGrid>
                <a:gridCol w="2381400"/>
                <a:gridCol w="2381040"/>
                <a:gridCol w="2381400"/>
              </a:tblGrid>
              <a:tr h="281160">
                <a:tc gridSpan="3"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ONES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DEL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gener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macena el exceso de Glucosa de la di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bre las necesidades de Glucosa a corto plazo (hipoglucemia, hipox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1104bc"/>
                          </a:solidFill>
                          <a:latin typeface="Calibri"/>
                          <a:ea typeface="Calibri"/>
                        </a:rPr>
                        <a:t>GLUCÓGENO HEP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GLUCÓGENO MUS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antiene la concentración de Glucosa en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tras las comidas y en las primeras fases del ayu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Combustible de reserva para la contracción muscular int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Otras fun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lmacena Glu en períodos de excesos (después de las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Hígado: Posee la enzim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Libera Glu a la sangre (intervalos entre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segura la provisión de Glu en todos los tej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úsculo: Carece de la fosfatas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No puede liberar Glu a la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Se degrada para obtener energía en 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amaño de los depós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0% peso húmedo del hí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duran sólo 12-24 hs durante el ayuno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-2% peso húmedo d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4 CuadroTexto"/>
          <p:cNvSpPr/>
          <p:nvPr/>
        </p:nvSpPr>
        <p:spPr>
          <a:xfrm>
            <a:off x="428760" y="1357200"/>
            <a:ext cx="78580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6 CuadroTexto"/>
          <p:cNvSpPr/>
          <p:nvPr/>
        </p:nvSpPr>
        <p:spPr>
          <a:xfrm>
            <a:off x="714240" y="3057480"/>
            <a:ext cx="77868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7 CuadroTexto"/>
          <p:cNvSpPr/>
          <p:nvPr/>
        </p:nvSpPr>
        <p:spPr>
          <a:xfrm>
            <a:off x="500040" y="5643720"/>
            <a:ext cx="7929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357800" y="2071800"/>
            <a:ext cx="388944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</a:t>
            </a:r>
            <a:r>
              <a:rPr b="1" lang="es-MX" sz="2800" spc="-1" strike="noStrike">
                <a:solidFill>
                  <a:srgbClr val="ff6600"/>
                </a:solidFill>
                <a:latin typeface="Arial"/>
              </a:rPr>
              <a:t>neo</a:t>
            </a:r>
            <a:r>
              <a:rPr b="1" lang="es-MX" sz="2800" spc="-1" strike="noStrike">
                <a:solidFill>
                  <a:srgbClr val="1104bc"/>
                </a:solidFill>
                <a:latin typeface="Arial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286160" y="3643200"/>
            <a:ext cx="471492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GENO</a:t>
            </a:r>
            <a:r>
              <a:rPr b="1" lang="es-MX" sz="2800" spc="-1" strike="noStrike">
                <a:solidFill>
                  <a:srgbClr val="1104bc"/>
                </a:solidFill>
                <a:latin typeface="Arial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68360" y="4869000"/>
            <a:ext cx="7696080" cy="94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ff"/>
                </a:solidFill>
                <a:latin typeface="Times New Roman"/>
              </a:rPr>
              <a:t>Los procesos de biosíntesis no son nunca la simple inversion de las correspondientes rutas catabó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TABOLISMO DE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RBOHIDRAT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7 CuadroTexto"/>
          <p:cNvSpPr/>
          <p:nvPr/>
        </p:nvSpPr>
        <p:spPr>
          <a:xfrm>
            <a:off x="362880" y="2500200"/>
            <a:ext cx="343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IOSÍNTESI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9 Conector recto de flecha"/>
          <p:cNvCxnSpPr/>
          <p:nvPr/>
        </p:nvCxnSpPr>
        <p:spPr>
          <a:xfrm flipV="1">
            <a:off x="3714480" y="2499840"/>
            <a:ext cx="500760" cy="47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8" name="14 Conector recto de flecha"/>
          <p:cNvCxnSpPr/>
          <p:nvPr/>
        </p:nvCxnSpPr>
        <p:spPr>
          <a:xfrm>
            <a:off x="3714840" y="2928600"/>
            <a:ext cx="4291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9" name="18 CuadroTexto"/>
          <p:cNvSpPr/>
          <p:nvPr/>
        </p:nvSpPr>
        <p:spPr>
          <a:xfrm>
            <a:off x="428760" y="2286000"/>
            <a:ext cx="37861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ali y facu</cp:lastModifiedBy>
  <dcterms:modified xsi:type="dcterms:W3CDTF">2014-09-24T11:09:50Z</dcterms:modified>
  <cp:revision>84</cp:revision>
  <dc:subject/>
  <dc:title>Diapositiva 1</dc:title>
</cp:coreProperties>
</file>